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E25-A329-4B5D-A6F7-8F5C1FE3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522-1B06-4A69-838F-ED13EB3A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B86-F087-4B9D-9D13-C6BCFCBA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403-D188-45AC-BC46-B87896F8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BD7-3999-49E8-AC1E-4CEE29A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81D-A82B-4D6F-888F-49B54CB0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7EC-C529-4BCF-831A-1B4E8943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49F-A019-4CBB-8100-73992A8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457-EE42-4925-887F-D335C9C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EA1-E1E4-4778-A4CB-14DA39E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43C-F098-4048-8141-DEF4CC0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A07-12BB-4116-AC33-6FA43EE2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2BF-CA78-4541-B824-56EEBD28D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2:40:39Z</dcterms:created>
  <dc:creator> </dc:creator>
  <dc:description/>
  <dc:language>en-US</dc:language>
  <cp:lastModifiedBy> </cp:lastModifiedBy>
  <dcterms:modified xsi:type="dcterms:W3CDTF">2008-04-04T12:41:37Z</dcterms:modified>
  <cp:revision>1</cp:revision>
  <dc:subject/>
  <dc:title>Slide 1</dc:title>
</cp:coreProperties>
</file>